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252-86B2-4F35-8776-66E6A2FD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D6A-AD89-49AD-8861-CF90EC2E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9B5-FC57-4CCA-B003-C0B3B8B8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C9F-1091-4440-BF5A-AE9C8EAB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DE5-1F21-4F74-9629-0C96D022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E2D-BA6A-4D0A-B21A-360C4F43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C40-5B26-42C1-BA07-F444418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B10-483E-44BE-9A7C-9598F589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304-0D8E-4C39-9AAD-A5F81AB0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205-97EB-499D-9C58-F5F3CA81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9C8-05D7-497B-A9C6-0D7B0E7F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443-CB9B-49E6-99F1-AFB7A7A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CCE2-CBAC-4957-ABA5-0C56FC465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.wav" TargetMode="External"/><Relationship Id="rId3" Type="http://schemas.microsoft.com/office/2007/relationships/media" Target="file:///tmp/home/.config/libreoffice/4/user/gallery/Chim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SCREAM.WAV" TargetMode="External"/><Relationship Id="rId3" Type="http://schemas.microsoft.com/office/2007/relationships/media" Target="file:///tmp/home/.config/libreoffice/4/user/gallery/SCREAM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Aliens.wav" TargetMode="External"/><Relationship Id="rId3" Type="http://schemas.microsoft.com/office/2007/relationships/media" Target="file:///tmp/home/.config/libreoffice/4/user/gallery/Alien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Evil%20laugh.wav" TargetMode="External"/><Relationship Id="rId3" Type="http://schemas.microsoft.com/office/2007/relationships/media" Target="file:///tmp/home/.config/libreoffice/4/user/gallery/Evil%20laug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SPARKLE.WAV" TargetMode="External"/><Relationship Id="rId3" Type="http://schemas.microsoft.com/office/2007/relationships/media" Target="file:///tmp/home/.config/libreoffice/4/user/gallery/SPARKL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file:///tmp/home/.config/libreoffice/4/user/gallery/Drumroll.wav" TargetMode="External"/><Relationship Id="rId3" Type="http://schemas.microsoft.com/office/2007/relationships/media" Target="file:///tmp/home/.config/libreoffice/4/user/gallery/Drumro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aunted%20house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380880"/>
            <a:ext cx="3252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LD HO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467480" y="30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29040" y="3105000"/>
            <a:ext cx="3085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CONN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oor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105520" y="1981080"/>
            <a:ext cx="376236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n the old, old hous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as an old,old doo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airs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581280" y="457200"/>
            <a:ext cx="451512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ehindthe old,old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oor was old,ol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ep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24680" y="5878440"/>
            <a:ext cx="121932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ld%20chest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5400000">
            <a:off x="2309400" y="2338200"/>
            <a:ext cx="4943520" cy="3162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t the top of the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ld,old step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s an old,old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es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33520" y="13716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533520"/>
            <a:ext cx="708660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he old, old chest were some old, old ha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Hats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305560" cy="419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ox" descr=""/>
          <p:cNvPicPr/>
          <p:nvPr/>
        </p:nvPicPr>
        <p:blipFill>
          <a:blip r:embed="rId1"/>
          <a:stretch/>
        </p:blipFill>
        <p:spPr>
          <a:xfrm>
            <a:off x="0" y="0"/>
            <a:ext cx="8126280" cy="541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676520" y="2971800"/>
            <a:ext cx="590544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der the old,ol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ts was an old,old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ey%201" descr=""/>
          <p:cNvPicPr/>
          <p:nvPr/>
        </p:nvPicPr>
        <p:blipFill>
          <a:blip r:embed="rId1"/>
          <a:stretch/>
        </p:blipFill>
        <p:spPr>
          <a:xfrm>
            <a:off x="0" y="4257720"/>
            <a:ext cx="8696160" cy="260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90720" y="220968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 the old,old box was an old,old k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host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50960" cy="4022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828800" y="304920"/>
            <a:ext cx="36957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ddanly  appeare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.................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host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50960" cy="4022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838080" y="762120"/>
            <a:ext cx="598176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HOST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9:56:30Z</dcterms:created>
  <dc:creator>Glenboi</dc:creator>
  <dc:description/>
  <dc:language>en-US</dc:language>
  <cp:lastModifiedBy>4glenb2</cp:lastModifiedBy>
  <dcterms:modified xsi:type="dcterms:W3CDTF">2009-10-14T10:59:07Z</dcterms:modified>
  <cp:revision>2</cp:revision>
  <dc:subject/>
  <dc:title>PowerPoint Presentation</dc:title>
</cp:coreProperties>
</file>